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93C-0EB9-40B8-A830-8471711A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110-2253-4B05-86B3-4EF9E5B7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9F8-B575-407F-ACBD-A2634D9B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2CC-2483-4A30-BB1B-CA755A38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4D5-47C1-4017-84C9-7F33374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11C-F5A5-4664-BCA4-70A028AD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60A-DFBA-48BA-BAA1-CD45450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3AB-2E6C-4018-89D2-FAC2A3FF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F62-E2EA-4732-8A6A-39D2866D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CE4-5417-40FD-9753-34840A1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58F-5A64-403B-AA29-0ABE0A20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182-CA50-4F4E-8A57-61C7C4F8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694-DA65-48B0-8720-4AEEF7756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utline map of africa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596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28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25720" y="3112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1460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526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7200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0292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3341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703840" y="3514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715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1055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0958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49568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3244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962520" y="609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5228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934320" y="472428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7010280" y="281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6629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-11160" y="374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86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114300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>
            <a:off x="5638680" y="40384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60199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 flipH="1" flipV="1">
            <a:off x="5791320" y="41148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62940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 flipH="1">
            <a:off x="5409720" y="365760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281952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1676520" y="3200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6"/>
          <p:cNvSpPr/>
          <p:nvPr/>
        </p:nvSpPr>
        <p:spPr>
          <a:xfrm>
            <a:off x="228600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205740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40384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191120" y="1447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0" y="0"/>
            <a:ext cx="2971800" cy="76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Feb. 17,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e—Map Test TODAY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5410080" y="4724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228600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3505320" y="76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8"/>
          <p:cNvSpPr/>
          <p:nvPr/>
        </p:nvSpPr>
        <p:spPr>
          <a:xfrm>
            <a:off x="6172200" y="0"/>
            <a:ext cx="29718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ocus today…Inst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practice on Umap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work on your Simple Book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17T14:48:14Z</dcterms:modified>
  <cp:revision>15</cp:revision>
  <dc:subject/>
  <dc:title>Slide 1</dc:title>
</cp:coreProperties>
</file>